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C479-4882-49F6-B618-864516E4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B5C6-8302-4B87-B076-F811EFC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F3DF-558A-40EA-BD61-DE2EAAC6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BF72-05C5-4B36-8E0C-1DC389FD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2592-6A8C-4EB0-A575-C8E9A4F9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F8C1-2A02-4731-866F-EDFA87B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9ECC-BCFA-4D2D-A73D-5200D7D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AD8-54AA-430D-AE23-9C28E769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BAB4-A4A9-4C4B-B343-EFBCB8B8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05DB-80CC-4932-8F04-8D56A79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21F5-1C8B-417E-B37E-C37D259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30BE-626C-490F-8C59-F9F6766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55FE-9DC7-46D6-86F0-C9A7A60B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03A-B159-4FFE-BB25-C4B428E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124C-9AC3-4963-A294-952E2EC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D90-7E3D-4FB1-83AC-AC1E723C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5A0-E1BA-4F9C-8B83-2AF56481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5AE5-6A74-4A2C-9FB2-4A48D9A8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1C62-5FEB-4360-AAA7-536FFDF4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724B-C15E-4A37-9273-F25962A1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4643-EAAB-46D3-95DF-4CC2725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525F-807F-4C3E-BF4B-EDCF309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5E4F-4DF1-4FE2-BB29-46F1DC4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4E71-C5D9-4D82-86E2-A7212A4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88B2-1BBD-4827-9EAF-BB141CFB69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AC6E-8AE0-4354-B19C-37A8548628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pperplate Gothic Bold"/>
              </a:rPr>
              <a:t>GRAN APERTUR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legon pronto para recibir dos por un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ntrad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 Reciben 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a taquill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 ha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para entra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l Cine de Santo Domigo tiene muc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utac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odo.  Antes de pelicula empezar, compron la soda y las meriendas en la tienda de meriend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19920" cy="12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828800" y="380880"/>
            <a:ext cx="56386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¡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N APERTURA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El Cine de Santo Domin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21004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1600200"/>
            <a:ext cx="175284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herlock Holmes: A Game Of Shadows” es e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El Cin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de Santo Domigo en viernes dieciseis de Diciembre.  L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pelicul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es en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version original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Tiene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ubtítulo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 espano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60020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bert Downey Jr., Jude Law, Noomi Rapace y Jared Harris son en la pelicula. La pelicula es muy magnific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3:26:21Z</dcterms:created>
  <dc:creator>greenmat</dc:creator>
  <dc:description/>
  <dc:language>en-US</dc:language>
  <cp:lastModifiedBy>greenmat</cp:lastModifiedBy>
  <dcterms:modified xsi:type="dcterms:W3CDTF">2011-12-23T18:20:06Z</dcterms:modified>
  <cp:revision>6</cp:revision>
  <dc:subject/>
  <dc:title>GRAN APERTURA</dc:title>
</cp:coreProperties>
</file>